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077-32AD-4ED5-B971-8444D262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D5F-4658-494C-9286-4B6F23C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3EE-E113-45F7-90C5-CE581436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F61-B756-4DE5-9702-066056EB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385C-4F37-432E-9BAD-FB7A625F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789-E316-4730-BC06-6E497B20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7FB-8737-4771-BBAF-AC98875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ED6D-AD75-43D1-98A8-9D1D6B9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1803-25CB-4718-8466-B39E4E7C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86BD-3709-4DD6-B73C-E80A02F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7F77-195A-448B-B203-F8A2162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DF0-70EE-4885-8BAD-A927DF0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ABB5-D430-4335-8474-6A382F1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22EC-19AC-4BD5-A028-B282F07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542A-4B9F-4C65-B09A-33125D59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71A2-BE3A-4E18-A419-B5B8686D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54F2-1AB5-408D-8954-8077CCA6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B2B-C6FB-44DD-8AA7-3A02FE9A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006-5ADE-4664-A831-3D1AE6D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3CC-66B2-441F-88CC-9ABC226D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494-0DEC-4B71-9DA7-CD922EBD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47B-CFE4-4A27-9D07-B6B4A87D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33E-2AC2-451C-A605-FB0B1B2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C25-58F4-47D4-9118-6DA3339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2D57-B5E7-453F-869F-C3D268E3F737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A3EC-B529-4D56-B94C-6168D116E9E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dreads.com/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iddle School Book Clubs: 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3276720"/>
            <a:ext cx="487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bara Kinast  -  LMS @  I.S. 68, Brook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inast@is68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18) 241- 4800 ext. 2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y start a middle school book club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ok clubs promote life-long rea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 allows you to stay current with teen trends and attitud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YA literature can be great reading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ok clubs provide word-of-mouth advertising for your LM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 is fun and rewardi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Step 1:  Preparation and Planning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80773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Questions to consider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hat time is available in the day to facilitate a book club?  (before/after school, during extended day period, lunchtim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w many students will be invited and what will be the make-up of the group? (multi-grade or single grade, combined or single gender, similar or varied reading lev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w will book sets be acquired? (public library, school purchase, grant, P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.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w will the book club activities be recorded or assessed? (projects, video, written responses, survey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Step 2:  Creating Interest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ake it teen-frien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rovide or allow food during discu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reate a feeling of informality and com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clude digital media - blogs, social networking, websites, digital projec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Empower students with choices and decision-making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me prepared with high-interest 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sk leading questions that allow students to talk about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676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Step 3:  When Problems Arise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752480"/>
            <a:ext cx="73152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aying on-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.   Use the first meeting to develop a shared list of book club rules  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(constitution, contract, manifesto, etc.) Post it near the mee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space and refer to it when need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.   Model accountable talk and/or provide prompts to student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(That reminds me of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…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 I disagree because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…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 I have a ques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about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…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.   If students get off track with reading, provide incentives fo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coming prepar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.   Help students with organization.  Possible strategies coul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include regular jobs for students, keeping post-it notes in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book for recording thoughts, making clear deadlines for read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assignments and staying in contact through e-mail or social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networ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Step 4:  Assessment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752480"/>
            <a:ext cx="73152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re and post-reading surv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ook re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Grou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Rubrics for self-evaluation and group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lpha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nferencing with students and anecdotal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f meeting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8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90720"/>
            <a:ext cx="7772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65d07"/>
                </a:solidFill>
                <a:uFillTx/>
                <a:latin typeface="Arial"/>
              </a:rPr>
              <a:t>Getting Started </a:t>
            </a:r>
            <a:r>
              <a:rPr b="0" lang="en-US" sz="1600" spc="-1" strike="noStrike">
                <a:solidFill>
                  <a:srgbClr val="065d07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NYCDOE Office of Library Services 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ween2teen.wikispaces.com/Hand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wiki on Middle School Book Cl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msbookclubs.wikispac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65d07"/>
                </a:solidFill>
                <a:uFillTx/>
                <a:latin typeface="Arial"/>
              </a:rPr>
              <a:t>Social Networking</a:t>
            </a:r>
            <a:r>
              <a:rPr b="0" lang="en-US" sz="1600" spc="-1" strike="noStrike">
                <a:solidFill>
                  <a:srgbClr val="065d07"/>
                </a:solidFill>
                <a:latin typeface="Arial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reads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goodread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65d07"/>
                </a:solidFill>
                <a:uFillTx/>
                <a:latin typeface="Arial"/>
              </a:rPr>
              <a:t>Choosing books</a:t>
            </a:r>
            <a:r>
              <a:rPr b="0" lang="en-US" sz="1600" spc="-1" strike="noStrike">
                <a:solidFill>
                  <a:srgbClr val="065d07"/>
                </a:solidFill>
                <a:latin typeface="Arial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Young Adult Library Services Association http://www.ala.org/ala/mgrps/divs/yalsa/booklistsawards/booklistsbook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65d07"/>
                </a:solidFill>
                <a:uFillTx/>
                <a:latin typeface="Arial"/>
              </a:rPr>
              <a:t>Making Book Trailers</a:t>
            </a:r>
            <a:r>
              <a:rPr b="0" lang="en-US" sz="1600" spc="-1" strike="noStrike">
                <a:solidFill>
                  <a:srgbClr val="065d07"/>
                </a:solidFill>
                <a:latin typeface="Arial"/>
              </a:rPr>
              <a:t>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icrosoft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techmentors.nbed.nb.ca/pdf%20files/Making%20Book%20Trailers%20with%20Photo%20Story3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Tuto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youtube.com/watch?v=s0oH9qE9q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5:49:02Z</dcterms:created>
  <dc:creator>NYCDOE</dc:creator>
  <dc:description/>
  <dc:language>en-US</dc:language>
  <cp:lastModifiedBy>NYCDOE</cp:lastModifiedBy>
  <dcterms:modified xsi:type="dcterms:W3CDTF">2009-11-02T23:07:08Z</dcterms:modified>
  <cp:revision>12</cp:revision>
  <dc:subject/>
  <dc:title>Slide 1</dc:title>
</cp:coreProperties>
</file>